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DCA7A-3303-4DBF-9491-C4017327D2BA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A6EF5-4664-420B-9ECB-321814A99ADC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774F7-D9E8-4602-8F95-19C6666B6F20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DBDB4-03B5-4A55-A038-3D45328E7772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8DA38-F429-4A6D-97C6-45BB22919690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DD350-6189-4CE3-8BFA-14CE98111E37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vcell.ndsu.edu/animations/etc/Stills/0917.jpg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schoolworkhelper.net/2010/07/electron-transport-and-chemiosmosis/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5ABF8-4516-4632-98A7-2C282E7EC78C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CA" sz="400" spc="-1" strike="noStrike">
                <a:solidFill>
                  <a:srgbClr val="000000"/>
                </a:solidFill>
                <a:latin typeface="Calibri"/>
              </a:rPr>
              <a:t>http://www.depts.ttu.edu/chemistry/Faculty/weber/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4A33B-234C-469E-BF57-14B9A17513EB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5349C-C27D-4776-8446-5673A3F0EF0E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D0E3B-005B-4833-92F4-FCEB04940E8F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2F91-A586-4105-94B9-754BF5DF1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E208-1A0E-4C4D-82EA-2ECFBCCD6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44EE-0583-4671-9F29-1246C1FAF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4742-59C9-43C8-BD1A-612D93C52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DB4F-3A31-4E1A-A58E-29BF4ABF3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EDB3-8845-4879-8F28-1E9810A80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474C-6201-48E0-B7BD-DC2B41CEF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5995-54AC-4122-914E-8B9F3564B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2560-C4DC-46D8-90BE-EC77A6730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7BDB-39CC-40C4-9F7B-061FCC81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758F-9DB4-48A4-B21C-8D38AFCE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E487-E069-41AD-AF33-DBAF9F88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DD13E-DD53-4C78-B8B2-F5B511DF1BFB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cience.smith.edu/departments/Biology/Bio231/etc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erobic Respi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898989"/>
                </a:solidFill>
                <a:latin typeface="Arial"/>
              </a:rPr>
              <a:t>The Electron Transport Ch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898989"/>
                </a:solidFill>
                <a:latin typeface="Arial"/>
              </a:rPr>
              <a:t>  </a:t>
            </a:r>
            <a:r>
              <a:rPr b="0" lang="en-CA" sz="3200" spc="-1" strike="noStrike">
                <a:solidFill>
                  <a:srgbClr val="898989"/>
                </a:solidFill>
                <a:latin typeface="Arial"/>
              </a:rPr>
              <a:t>&amp; Oxidative Phosphory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ctual Yield: &lt; 38 AT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exact ratio of NADH and FAD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AT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glycerol-phosphate shuttle vs. malate-aspartate shut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coupling of electron transport and chemiosm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of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low might be used to power other proce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nim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80880" y="1371240"/>
            <a:ext cx="8305920" cy="46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&amp; clear animation with narr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ttp://highered.mcgraw-hill.com/sites/0072437316/student_view0/chapter9/animations.html#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llent step-by-step anim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science.smith.edu/departments/Biology/Bio231/etc.htm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visit the Khan Academy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cellent lesson on the Electron Transport Chai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khanacademy.org/video/electron-transport-chain?playlist=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dditional Anim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99972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-by-step animation with explana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ttp://www.sp.uconn.edu/~terry/Common/respiration.htm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are interested in the chemical structure of all of the molecules involved, watch this animation seri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www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kyr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com/mitochondrion.htm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he Electron Transport Ch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 final stage of aerobic cellular respi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ost of the energy from the original glucose molecule is transferred to ATP molecules during this st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akes place on the inner membrane of the mitochondr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n Transport Ch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Text Placeholder 2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n Transport Ch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Text Placeholder 2" descr=""/>
          <p:cNvPicPr/>
          <p:nvPr/>
        </p:nvPicPr>
        <p:blipFill>
          <a:blip r:embed="rId1"/>
          <a:stretch/>
        </p:blipFill>
        <p:spPr>
          <a:xfrm>
            <a:off x="1679400" y="1600200"/>
            <a:ext cx="5785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watch a movi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vcell.ndsu.edu/animations/etc/movie-flash.ht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http://www.langara.bc.ca/biology/mario/Assets/ETC.jpg"/>
          <p:cNvPicPr/>
          <p:nvPr/>
        </p:nvPicPr>
        <p:blipFill>
          <a:blip r:embed="rId1"/>
          <a:stretch/>
        </p:blipFill>
        <p:spPr>
          <a:xfrm>
            <a:off x="728640" y="1143000"/>
            <a:ext cx="7500960" cy="56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TP Synthase Comple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368440" y="1523880"/>
            <a:ext cx="4108680" cy="48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Oxidative Phosphory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http://www.langara.bc.ca/biology/mario/Assets/chemiosmosis.jpg"/>
          <p:cNvPicPr/>
          <p:nvPr/>
        </p:nvPicPr>
        <p:blipFill>
          <a:blip r:embed="rId1"/>
          <a:stretch/>
        </p:blipFill>
        <p:spPr>
          <a:xfrm>
            <a:off x="1523880" y="1676520"/>
            <a:ext cx="614376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heoretical Energy Y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43040" y="157176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0000"/>
                </a:solidFill>
                <a:uFillTx/>
                <a:latin typeface="Calibri"/>
              </a:rPr>
              <a:t>Glycolysis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ubstrate-level phosphorylation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2 ATP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2 NADH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2 FADH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4 ATP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300" spc="-1" strike="noStrike">
                <a:solidFill>
                  <a:srgbClr val="000000"/>
                </a:solidFill>
                <a:latin typeface="Calibri"/>
              </a:rPr>
              <a:t>( </a:t>
            </a:r>
            <a:r>
              <a:rPr b="0" i="1" lang="en-US" sz="2300" spc="-1" strike="noStrike" u="sng">
                <a:solidFill>
                  <a:srgbClr val="000000"/>
                </a:solidFill>
                <a:uFillTx/>
                <a:latin typeface="Calibri"/>
              </a:rPr>
              <a:t>or</a:t>
            </a:r>
            <a:r>
              <a:rPr b="0" i="1" lang="en-US" sz="23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300" spc="-1" strike="noStrike">
                <a:solidFill>
                  <a:srgbClr val="000000"/>
                </a:solidFill>
                <a:latin typeface="Calibri"/>
              </a:rPr>
              <a:t>2 NADH)</a:t>
            </a:r>
            <a:r>
              <a:rPr b="0" i="1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300" spc="-1" strike="noStrike">
                <a:solidFill>
                  <a:srgbClr val="000000"/>
                </a:solidFill>
                <a:latin typeface="Calibri"/>
              </a:rPr>
              <a:t>(6 ATP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0000"/>
                </a:solidFill>
                <a:uFillTx/>
                <a:latin typeface="Calibri"/>
              </a:rPr>
              <a:t>Pyruvate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0000"/>
                </a:solidFill>
                <a:uFillTx/>
                <a:latin typeface="Calibri"/>
              </a:rPr>
              <a:t>Oxidation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2 NADH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6 ATP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0000"/>
                </a:solidFill>
                <a:uFillTx/>
                <a:latin typeface="Calibri"/>
              </a:rPr>
              <a:t>Krebs Cycle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ubstrate-level phosphorylation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2 ATP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6 NADH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18 ATP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2 FADH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4 ATP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OTAL: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6 ATP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 (38 AT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5T20:54:35Z</dcterms:created>
  <dc:creator>jen</dc:creator>
  <dc:description/>
  <dc:language>en-US</dc:language>
  <cp:lastModifiedBy>rubina khan</cp:lastModifiedBy>
  <dcterms:modified xsi:type="dcterms:W3CDTF">2012-10-23T12:56:03Z</dcterms:modified>
  <cp:revision>102</cp:revision>
  <dc:subject/>
  <dc:title>Slide 1</dc:title>
</cp:coreProperties>
</file>